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1CB-E683-4BE6-B226-B81A44C5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775-41A5-4AF5-B32C-3CAC1EC4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048-B863-4C8F-8360-53F73A0A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A4D-1817-4970-A109-1F88DB76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A165-C9AD-42EA-B0AA-72B063BC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C58F-B9D9-4C38-889A-7E549EE8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003F-DEB7-4BB4-88EC-8450E978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2677-460E-48D1-9CA3-785732D8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E10E-0618-431B-BDF7-0B2E103F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1C8D-D124-4FFE-9FA4-4ECE0BEC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F7F1-AA6E-4DD6-B9D0-239A0414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39C-4A06-4293-BC19-A0F6A028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A16E-F68F-4B40-8BDD-53052882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7DFC-7174-40E6-A413-D3364582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A67C-E68D-417F-B821-2B23CFF1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E49B-489E-45DF-B982-5CCBD54A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8B58-16A4-4C6E-8E10-079B2C04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D55-6B52-4D9F-8154-DD064FD7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811-91CF-4261-AB13-3173166B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BC8-32F9-4C96-8293-C2AA8211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A46-A875-44A5-BA19-233A4E4C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935-7C76-4D61-8F55-2D36B455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103-85C6-43E9-B7B7-5821CF3E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11F-6AB6-44CE-9A05-7F9DC8C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0EFD-C371-4252-838C-FEBF70765F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A723-F974-4905-9C92-C05673E83C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wton.ac.uk/newtlife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8768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saac Newt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bout Newt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n in Lincolnshire on December 25, 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ied in Kensington, London on March 20, 17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ttended Trinity Coll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oted much of tim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chem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olog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bout Newt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d in the development of calcu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ched upon the Laws of Motion &amp; the Law of Grav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619440"/>
            <a:ext cx="2638440" cy="3238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3238560" cy="32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134040" y="3581280"/>
            <a:ext cx="3009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62600" y="3762360"/>
            <a:ext cx="238140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k in Phys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ed force needed to keep moon in 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ed centripetal force needed to hold stone in s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ed relation between length of pendulum and time of sw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k in Phys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ton wrote the book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i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book 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 the foundations of science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ed orbital motion around center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ty I.D. as the primary source controlling motions of celestial bo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never f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book II) Isaac discovered how to calculate the speed of sound waves from the density of ai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Isaac Newton Gravity Law"/>
          <p:cNvPicPr/>
          <p:nvPr/>
        </p:nvPicPr>
        <p:blipFill>
          <a:blip r:embed="rId1"/>
          <a:stretch/>
        </p:blipFill>
        <p:spPr>
          <a:xfrm>
            <a:off x="5553000" y="0"/>
            <a:ext cx="3591000" cy="6808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k in Phys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book III) describes the laws of gravitation at work in the unive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n’t perfect the theory of moons 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ton's work has been thought of as “humanity’s greatest achievements in abstract though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newton.ac.uk/newtlif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maths.tcd.ie/pub/HistMath/People/Newton/RouseBall/RB_Newton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blupete.com/Literature/Biographies/Science/Newton.htm#Accomplish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3:02:28Z</dcterms:created>
  <dc:creator>Owner</dc:creator>
  <dc:description/>
  <dc:language>en-US</dc:language>
  <cp:lastModifiedBy>Owner</cp:lastModifiedBy>
  <dcterms:modified xsi:type="dcterms:W3CDTF">2010-02-05T05:23:47Z</dcterms:modified>
  <cp:revision>2</cp:revision>
  <dc:subject/>
  <dc:title>Isaac Newton</dc:title>
</cp:coreProperties>
</file>